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CCF9-F34F-43BD-BC53-1B513759A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7240" y="434196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 Control has become a National Program since 1969 under coordination of the Ministry of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2, the National Program evaluated by WHO and KNCV (Royal Netherlands Tuberculosis Association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ure Rate of the notified cases is as low as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ommended Indonesia to adopt DOTS, as this strategy has shown a great success in many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’s National TB-Control Program adopted DOTS as a national strategy in 1995, after “OPERATIONAL TRIAL RUN,” conducted in 2 provinces, showed a very good result and reached a cure rate of more then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S was expanded to the whole country gradu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years after implementing DOTS, the National Program conducted an evaluation of DOTS expansion and the performance of DOTS where the Case Detection Rate is quite low as 12%, while the population coverage increased to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9, the Minister of Health launched  “GERDUNAS-TBC,” a nationally-integrated movement to fight against TBC. This became the beginning of the National TB Control Program accel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llaboration of PUBLIC-PUBLIC MIX (Gov’t Hospital, Prison, Military Hospital and Health centers) as well as PUBLIC-PRIVATE MIX (Private Hospital, Private Clinic, Private Practitioners, Work-place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Notification from 2001 onward, following  capacity-building activities supported by the Dutch Government, starting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ACF-ABE8-49CE-BEF4-1E483968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7DF-6211-469F-98F1-7415C2CB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EB8-289A-4CC1-9C37-C3E5B740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281-1EC3-43DC-AB67-8450EB5A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064-D62E-495A-9DB8-81BE2825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A88-4D34-43F5-BAC7-804E4F23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233-37F1-42AF-86C6-9650EE64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B88-2AFF-4C52-893B-75FF8BB2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9E3-A19F-4D7E-A260-09B65827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CD6-CF75-4E88-92D1-8EA2247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FE1-58A5-4AE1-94DF-AFB652A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6F5-7C1E-4156-A775-42FD655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E8A-DAE6-4031-B163-9DDA0984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997360"/>
            <a:ext cx="684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51640" y="981000"/>
            <a:ext cx="1273320" cy="176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052640"/>
            <a:ext cx="71247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5164200"/>
            <a:ext cx="604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Dr Carmelia Bas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Dr Nadia Tarm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National TB Control Program Indone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M&amp;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MEASURE Evaluation, New Delhi, 1Feb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42920" y="2871720"/>
            <a:ext cx="5689800" cy="239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24000" y="836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&amp;E for a Better Pl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24360" y="2060640"/>
            <a:ext cx="316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ONESI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6C7-4A64-4F19-8A8B-A6A1AB07542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907920"/>
          <a:ext cx="715176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07920"/>
                    <a:ext cx="715176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85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Indonesia :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22 High Burden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91720" y="1517760"/>
            <a:ext cx="1793520" cy="511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ff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aiandra GD"/>
                <a:ea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Banglade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Nig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Pak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South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Philipp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Ethi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K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DR Con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Viet N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UR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Braz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Thai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Zimbab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Cambo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Myan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Ug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Afghan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iandra GD"/>
                <a:ea typeface="Arial"/>
              </a:rPr>
              <a:t>Mozamb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Maiandra G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05880" y="3645000"/>
            <a:ext cx="3528360" cy="3618000"/>
            <a:chOff x="3305880" y="3645000"/>
            <a:chExt cx="3528360" cy="3618000"/>
          </a:xfrm>
        </p:grpSpPr>
        <p:sp>
          <p:nvSpPr>
            <p:cNvPr id="60" name=""/>
            <p:cNvSpPr/>
            <p:nvPr/>
          </p:nvSpPr>
          <p:spPr>
            <a:xfrm rot="2235600">
              <a:off x="3809520" y="4129920"/>
              <a:ext cx="2441520" cy="24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6" y="5579"/>
                  </a:moveTo>
                  <a:arcTo wR="10800" hR="10800" stAng="-9065283" swAng="36568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6" y="5579"/>
                  </a:moveTo>
                  <a:arcTo wR="10800" hR="10800" stAng="-9065283" swAng="3656836"/>
                </a:path>
              </a:pathLst>
            </a:custGeom>
            <a:solidFill>
              <a:srgbClr val="cc00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235600">
              <a:off x="3868920" y="4242600"/>
              <a:ext cx="2441520" cy="24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3" y="0"/>
                  </a:moveTo>
                  <a:arcTo wR="10800" hR="10800" stAng="-5408447" swAng="64877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3" y="0"/>
                  </a:moveTo>
                  <a:arcTo wR="10800" hR="10800" stAng="-5408447" swAng="6487734"/>
                </a:path>
              </a:pathLst>
            </a:custGeom>
            <a:solidFill>
              <a:srgbClr val="ea8914"/>
            </a:solidFill>
            <a:ln w="0">
              <a:noFill/>
            </a:ln>
            <a:effectLst>
              <a:outerShdw dist="71785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235600">
              <a:off x="3887280" y="4289040"/>
              <a:ext cx="2442960" cy="24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72" y="14135"/>
                  </a:moveTo>
                  <a:arcTo wR="10800" hR="10800" stAng="1079288" swAng="5653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72" y="14135"/>
                  </a:moveTo>
                  <a:arcTo wR="10800" hR="10800" stAng="1079288" swAng="5653425"/>
                </a:path>
              </a:pathLst>
            </a:cu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979640" y="3648960"/>
            <a:ext cx="4549320" cy="3493080"/>
            <a:chOff x="1979640" y="3648960"/>
            <a:chExt cx="4549320" cy="3493080"/>
          </a:xfrm>
        </p:grpSpPr>
        <p:sp>
          <p:nvSpPr>
            <p:cNvPr id="64" name=""/>
            <p:cNvSpPr/>
            <p:nvPr/>
          </p:nvSpPr>
          <p:spPr>
            <a:xfrm flipH="1">
              <a:off x="3522240" y="4486320"/>
              <a:ext cx="887400" cy="46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531960" y="4937040"/>
              <a:ext cx="5176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531960" y="5219640"/>
              <a:ext cx="5176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531960" y="5527800"/>
              <a:ext cx="5176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531960" y="5824440"/>
              <a:ext cx="51768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517920" y="5973840"/>
              <a:ext cx="465120" cy="77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415680" y="6129360"/>
              <a:ext cx="489240" cy="1555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235600">
              <a:off x="3841920" y="4317840"/>
              <a:ext cx="2179800" cy="24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17" y="20799"/>
                  </a:moveTo>
                  <a:arcTo wR="10800" hR="10800" stAng="6732713" swAng="182695"/>
                  <a:lnTo>
                    <a:pt x="10800" y="10800"/>
                  </a:lnTo>
                  <a:close/>
                </a:path>
                <a:path fill="none" w="21600" h="21600">
                  <a:moveTo>
                    <a:pt x="6717" y="20799"/>
                  </a:moveTo>
                  <a:arcTo wR="10800" hR="10800" stAng="6732713" swAng="182695"/>
                </a:path>
              </a:pathLst>
            </a:custGeom>
            <a:solidFill>
              <a:srgbClr val="66ff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235600">
              <a:off x="3791160" y="4062960"/>
              <a:ext cx="2181240" cy="241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" y="12102"/>
                  </a:moveTo>
                  <a:arcTo wR="10800" hR="10800" stAng="10384390" swAng="2150327"/>
                  <a:lnTo>
                    <a:pt x="10800" y="10800"/>
                  </a:lnTo>
                  <a:close/>
                </a:path>
                <a:path fill="none" w="21600" h="21600">
                  <a:moveTo>
                    <a:pt x="79" y="12102"/>
                  </a:moveTo>
                  <a:arcTo wR="10800" hR="10800" stAng="10384390" swAng="2150327"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235600">
              <a:off x="3805560" y="4093200"/>
              <a:ext cx="2184120" cy="24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3" y="14813"/>
                  </a:moveTo>
                  <a:arcTo wR="10800" hR="10800" stAng="9491315" swAng="893075"/>
                  <a:lnTo>
                    <a:pt x="10800" y="10800"/>
                  </a:lnTo>
                  <a:close/>
                </a:path>
                <a:path fill="none" w="21600" h="21600">
                  <a:moveTo>
                    <a:pt x="773" y="14813"/>
                  </a:moveTo>
                  <a:arcTo wR="10800" hR="10800" stAng="9491315" swAng="893075"/>
                </a:path>
              </a:pathLst>
            </a:cu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235600">
              <a:off x="3810960" y="4136400"/>
              <a:ext cx="2181600" cy="24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4" y="17109"/>
                  </a:moveTo>
                  <a:arcTo wR="10800" hR="10800" stAng="8655276" swAng="836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4" y="17109"/>
                  </a:moveTo>
                  <a:arcTo wR="10800" hR="10800" stAng="8655276" swAng="836039"/>
                </a:path>
              </a:pathLst>
            </a:cu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235600">
              <a:off x="3816720" y="4218120"/>
              <a:ext cx="2183040" cy="24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5"/>
                  </a:moveTo>
                  <a:arcTo wR="10800" hR="10800" stAng="7340449" swAng="6528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5"/>
                  </a:moveTo>
                  <a:arcTo wR="10800" hR="10800" stAng="7340449" swAng="652810"/>
                </a:path>
              </a:pathLst>
            </a:cu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235600">
              <a:off x="3813120" y="4164120"/>
              <a:ext cx="2181600" cy="24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04" y="18670"/>
                  </a:moveTo>
                  <a:arcTo wR="10800" hR="10800" stAng="7993260" swAng="662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04" y="18670"/>
                  </a:moveTo>
                  <a:arcTo wR="10800" hR="10800" stAng="7993260" swAng="662017"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235600">
              <a:off x="3828240" y="4255920"/>
              <a:ext cx="2177280" cy="240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92" y="20568"/>
                  </a:moveTo>
                  <a:arcTo wR="10800" hR="10800" stAng="6915408" swAng="425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6192" y="20568"/>
                  </a:moveTo>
                  <a:arcTo wR="10800" hR="10800" stAng="6915408" swAng="425041"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3480" y="4476600"/>
              <a:ext cx="1407240" cy="243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onesia 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49560" y="4827600"/>
              <a:ext cx="136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Bangladesh 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59200" y="4152960"/>
              <a:ext cx="78912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79920" y="5305320"/>
              <a:ext cx="64764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3440" y="6016680"/>
              <a:ext cx="72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  <a:ea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  <a:ea typeface="Arial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49560" y="544032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Philippines 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27280" y="515628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Pakistan 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7800" y="572292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Nigeria 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79640" y="600084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South Africa 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2960" y="625464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  <a:ea typeface="Arial"/>
                </a:rPr>
                <a:t>Russia 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Chronology of events leading to </a:t>
            </a:r>
            <a:br>
              <a:rPr sz="3700"/>
            </a:b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rapid scaling up of DO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-1440" y="2945880"/>
            <a:ext cx="45468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6840" y="1295280"/>
            <a:ext cx="8742240" cy="5506920"/>
            <a:chOff x="366840" y="1295280"/>
            <a:chExt cx="8742240" cy="5506920"/>
          </a:xfrm>
        </p:grpSpPr>
        <p:graphicFrame>
          <p:nvGraphicFramePr>
            <p:cNvPr id="91" name=""/>
            <p:cNvGraphicFramePr/>
            <p:nvPr/>
          </p:nvGraphicFramePr>
          <p:xfrm>
            <a:off x="366840" y="1295280"/>
            <a:ext cx="8326440" cy="4267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1295280"/>
                      <a:ext cx="8326440" cy="426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1654200" y="4064040"/>
              <a:ext cx="9907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rdunas*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9560" y="4521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5800" y="6095880"/>
              <a:ext cx="1523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Partn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60560" y="3987720"/>
              <a:ext cx="1219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RD Prog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utch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32160" y="51051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46360" y="612144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wi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9360" y="4464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84800" y="403848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Y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89560" y="4083120"/>
              <a:ext cx="762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D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3400" y="5607000"/>
              <a:ext cx="12189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FATM Pr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070600" y="4997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6560" y="5987880"/>
              <a:ext cx="1143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B Part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22880" y="3930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BC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-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42200" y="545472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F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-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85000" y="49971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60960" y="4768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08880" y="4056120"/>
              <a:ext cx="99072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-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89760" y="4641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65880" y="4464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42200" y="4997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251080" y="4952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7600" y="4673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56000" y="5334120"/>
              <a:ext cx="10666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936880" y="502884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42200" y="6324480"/>
              <a:ext cx="2666880" cy="477720"/>
            </a:xfrm>
            <a:prstGeom prst="rect">
              <a:avLst/>
            </a:prstGeom>
            <a:solidFill>
              <a:srgbClr val="ffff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*Gerdunas = National Integrate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ement to Fight against T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1773360"/>
          <a:ext cx="8955000" cy="4733640"/>
        </p:xfrm>
        <a:graphic>
          <a:graphicData uri="http://schemas.openxmlformats.org/drawingml/2006/table">
            <a:tbl>
              <a:tblPr/>
              <a:tblGrid>
                <a:gridCol w="3586680"/>
                <a:gridCol w="971280"/>
                <a:gridCol w="216000"/>
                <a:gridCol w="4181040"/>
              </a:tblGrid>
              <a:tr h="73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alth Service Uni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nvolved in DO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g Clini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g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cial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y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e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4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Practitio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 (&gt;98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 (100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(10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 (2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(2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(2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 (1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(1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   (piloting 5 provinc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5438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TS Services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0 Mill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nc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3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ct/Municipal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8320" y="692280"/>
            <a:ext cx="8077320" cy="522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76327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EVALENCE Survey   2004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523880"/>
          <a:ext cx="8964720" cy="50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23880"/>
                    <a:ext cx="8964720" cy="50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066680" y="3809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388620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190760" y="1828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00240" y="17524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1600200"/>
            <a:ext cx="8384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159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ing estimates of incidence to be applied at provincial leve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14600"/>
            <a:ext cx="838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523880"/>
            <a:ext cx="838188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553-726B-495B-ADF2-5BC4F574D8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7750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ase Detection Rate 2004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846680" y="2138400"/>
          <a:ext cx="4189320" cy="33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6680" y="2138400"/>
                    <a:ext cx="418932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2136600"/>
          <a:ext cx="4716360" cy="33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6600"/>
                    <a:ext cx="471636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79280" y="3429000"/>
          <a:ext cx="4176720" cy="264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429000"/>
                    <a:ext cx="41767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73440" y="3352680"/>
          <a:ext cx="4570560" cy="290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3440" y="3352680"/>
                    <a:ext cx="457056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167040" y="588960"/>
            <a:ext cx="4260240" cy="2555280"/>
            <a:chOff x="167040" y="588960"/>
            <a:chExt cx="4260240" cy="2555280"/>
          </a:xfrm>
        </p:grpSpPr>
        <p:sp>
          <p:nvSpPr>
            <p:cNvPr id="143" name=""/>
            <p:cNvSpPr/>
            <p:nvPr/>
          </p:nvSpPr>
          <p:spPr>
            <a:xfrm>
              <a:off x="689400" y="673920"/>
              <a:ext cx="36306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9400" y="899640"/>
              <a:ext cx="36306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9400" y="1068120"/>
              <a:ext cx="36306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9400" y="1167120"/>
              <a:ext cx="36306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9400" y="126576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9400" y="133704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9400" y="1407960"/>
              <a:ext cx="36306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9400" y="146376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9400" y="1534680"/>
              <a:ext cx="363060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9400" y="1590480"/>
              <a:ext cx="3630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9400" y="1633680"/>
              <a:ext cx="363060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9400" y="1703520"/>
              <a:ext cx="3630600" cy="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9400" y="1746720"/>
              <a:ext cx="36306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400" y="1802160"/>
              <a:ext cx="3630600" cy="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9400" y="1845720"/>
              <a:ext cx="36306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400" y="1901160"/>
              <a:ext cx="36306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9400" y="1942920"/>
              <a:ext cx="363060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9400" y="2000160"/>
              <a:ext cx="363060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9400" y="2057040"/>
              <a:ext cx="363060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9400" y="209880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9400" y="2170080"/>
              <a:ext cx="363060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400" y="2239920"/>
              <a:ext cx="36306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9400" y="2310840"/>
              <a:ext cx="36306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9400" y="2409840"/>
              <a:ext cx="36306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9400" y="2508480"/>
              <a:ext cx="363060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9400" y="2635200"/>
              <a:ext cx="36306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680" y="687600"/>
              <a:ext cx="3630240" cy="21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7680" y="259200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7680" y="2352600"/>
              <a:ext cx="36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7680" y="211284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7680" y="1873440"/>
              <a:ext cx="36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7680" y="1647720"/>
              <a:ext cx="36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7680" y="140796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7680" y="116712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7680" y="927360"/>
              <a:ext cx="3630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7680" y="687600"/>
              <a:ext cx="36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7680" y="687600"/>
              <a:ext cx="3630240" cy="2145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680" y="687600"/>
              <a:ext cx="1080" cy="214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560" y="28332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3560" y="25920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560" y="2352600"/>
              <a:ext cx="23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560" y="211284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560" y="1873440"/>
              <a:ext cx="23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3560" y="1647720"/>
              <a:ext cx="23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3560" y="140796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3560" y="11671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3560" y="927360"/>
              <a:ext cx="23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3560" y="68760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7680" y="2833200"/>
              <a:ext cx="3630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9768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214280" y="2833200"/>
              <a:ext cx="144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73916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25468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77128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28824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12760" y="2833200"/>
              <a:ext cx="108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328280" y="2833200"/>
              <a:ext cx="1440" cy="4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0120" y="1633680"/>
              <a:ext cx="3105720" cy="902520"/>
            </a:xfrm>
            <a:custGeom>
              <a:avLst/>
              <a:gdLst/>
              <a:ahLst/>
              <a:rect l="l" t="t" r="r" b="b"/>
              <a:pathLst>
                <a:path w="379" h="64">
                  <a:moveTo>
                    <a:pt x="0" y="64"/>
                  </a:moveTo>
                  <a:lnTo>
                    <a:pt x="63" y="60"/>
                  </a:lnTo>
                  <a:lnTo>
                    <a:pt x="126" y="43"/>
                  </a:lnTo>
                  <a:lnTo>
                    <a:pt x="190" y="41"/>
                  </a:lnTo>
                  <a:lnTo>
                    <a:pt x="253" y="39"/>
                  </a:lnTo>
                  <a:lnTo>
                    <a:pt x="316" y="21"/>
                  </a:lnTo>
                  <a:lnTo>
                    <a:pt x="379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60120" y="758880"/>
              <a:ext cx="3105720" cy="1678680"/>
            </a:xfrm>
            <a:custGeom>
              <a:avLst/>
              <a:gdLst/>
              <a:ahLst/>
              <a:rect l="l" t="t" r="r" b="b"/>
              <a:pathLst>
                <a:path w="379" h="119">
                  <a:moveTo>
                    <a:pt x="0" y="119"/>
                  </a:moveTo>
                  <a:lnTo>
                    <a:pt x="63" y="114"/>
                  </a:lnTo>
                  <a:lnTo>
                    <a:pt x="126" y="85"/>
                  </a:lnTo>
                  <a:lnTo>
                    <a:pt x="190" y="76"/>
                  </a:lnTo>
                  <a:lnTo>
                    <a:pt x="253" y="68"/>
                  </a:lnTo>
                  <a:lnTo>
                    <a:pt x="316" y="16"/>
                  </a:lnTo>
                  <a:lnTo>
                    <a:pt x="379" y="0"/>
                  </a:ln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8720" y="2465280"/>
              <a:ext cx="81720" cy="141840"/>
            </a:xfrm>
            <a:custGeom>
              <a:avLst/>
              <a:gdLst/>
              <a:ahLst/>
              <a:rect l="l" t="t" r="r" b="b"/>
              <a:pathLst>
                <a:path w="62" h="102">
                  <a:moveTo>
                    <a:pt x="31" y="0"/>
                  </a:moveTo>
                  <a:lnTo>
                    <a:pt x="62" y="51"/>
                  </a:lnTo>
                  <a:lnTo>
                    <a:pt x="31" y="102"/>
                  </a:lnTo>
                  <a:lnTo>
                    <a:pt x="0" y="51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5680" y="2409840"/>
              <a:ext cx="81720" cy="1404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62" y="50"/>
                  </a:lnTo>
                  <a:lnTo>
                    <a:pt x="31" y="101"/>
                  </a:lnTo>
                  <a:lnTo>
                    <a:pt x="0" y="50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52640" y="2170080"/>
              <a:ext cx="80640" cy="1407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30" y="0"/>
                  </a:moveTo>
                  <a:lnTo>
                    <a:pt x="61" y="50"/>
                  </a:lnTo>
                  <a:lnTo>
                    <a:pt x="30" y="101"/>
                  </a:lnTo>
                  <a:lnTo>
                    <a:pt x="0" y="5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76080" y="2140920"/>
              <a:ext cx="81720" cy="141840"/>
            </a:xfrm>
            <a:custGeom>
              <a:avLst/>
              <a:gdLst/>
              <a:ahLst/>
              <a:rect l="l" t="t" r="r" b="b"/>
              <a:pathLst>
                <a:path w="62" h="102">
                  <a:moveTo>
                    <a:pt x="31" y="0"/>
                  </a:moveTo>
                  <a:lnTo>
                    <a:pt x="62" y="51"/>
                  </a:lnTo>
                  <a:lnTo>
                    <a:pt x="31" y="102"/>
                  </a:lnTo>
                  <a:lnTo>
                    <a:pt x="0" y="51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92680" y="2112840"/>
              <a:ext cx="82080" cy="14076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62" y="51"/>
                  </a:lnTo>
                  <a:lnTo>
                    <a:pt x="31" y="101"/>
                  </a:lnTo>
                  <a:lnTo>
                    <a:pt x="0" y="51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9280" y="1859400"/>
              <a:ext cx="81720" cy="1404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62" y="50"/>
                  </a:lnTo>
                  <a:lnTo>
                    <a:pt x="31" y="101"/>
                  </a:lnTo>
                  <a:lnTo>
                    <a:pt x="0" y="50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24800" y="1562760"/>
              <a:ext cx="82080" cy="1404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62" y="51"/>
                  </a:lnTo>
                  <a:lnTo>
                    <a:pt x="31" y="101"/>
                  </a:lnTo>
                  <a:lnTo>
                    <a:pt x="0" y="51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8720" y="2366640"/>
              <a:ext cx="74160" cy="1281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35680" y="2297160"/>
              <a:ext cx="7416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52640" y="1887120"/>
              <a:ext cx="7236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76080" y="1760400"/>
              <a:ext cx="7380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92680" y="1647720"/>
              <a:ext cx="7416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9280" y="913680"/>
              <a:ext cx="72720" cy="12636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4800" y="687600"/>
              <a:ext cx="74160" cy="12672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02840" y="1717200"/>
              <a:ext cx="42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100,2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61120" y="19720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74.7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0080" y="2253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53.96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9000" y="22827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52.3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31840" y="2253600"/>
              <a:ext cx="29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49.33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4760" y="24793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29.78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1680" y="2608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25.4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00080" y="646200"/>
              <a:ext cx="42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174,18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74120" y="871560"/>
              <a:ext cx="42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152.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32480" y="1491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93.03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42080" y="1717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84.59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86240" y="18871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73.4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66480" y="2112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39.55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1360" y="2253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33.2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720" y="24930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720" y="22536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720" y="201384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3720" y="177444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7040" y="15487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040" y="13093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1800" y="10681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1800" y="8287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1800" y="58896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932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556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144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1704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292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4808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5040" y="296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0480" y="842400"/>
              <a:ext cx="20520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22200" y="814680"/>
              <a:ext cx="32760" cy="5652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2" y="0"/>
                  </a:moveTo>
                  <a:lnTo>
                    <a:pt x="25" y="20"/>
                  </a:lnTo>
                  <a:lnTo>
                    <a:pt x="12" y="41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70520" y="772560"/>
              <a:ext cx="1148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Kasus TB Baru BTA(+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0480" y="1026360"/>
              <a:ext cx="205200" cy="10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200" y="998640"/>
              <a:ext cx="25200" cy="4140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50360" y="955440"/>
              <a:ext cx="60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  <a:ea typeface="Arial"/>
                </a:rPr>
                <a:t>Semua ti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495680" y="380880"/>
            <a:ext cx="4422960" cy="277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performance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ologic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ad to reach the Global Target by 2005</a:t>
            </a:r>
            <a:r>
              <a:rPr b="0" lang="en-GB" sz="41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30280" y="1600200"/>
          <a:ext cx="3890880" cy="21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600200"/>
                    <a:ext cx="38908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788000" y="1405080"/>
            <a:ext cx="3887640" cy="2392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24000" y="1341360"/>
            <a:ext cx="3960720" cy="2544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851280" y="6597720"/>
            <a:ext cx="19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iandra GD"/>
                <a:ea typeface="Arial"/>
              </a:rPr>
              <a:t>WHO Global TB Report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800600" y="3733920"/>
            <a:ext cx="3743280" cy="2541600"/>
            <a:chOff x="4800600" y="3733920"/>
            <a:chExt cx="3743280" cy="2541600"/>
          </a:xfrm>
        </p:grpSpPr>
        <p:sp>
          <p:nvSpPr>
            <p:cNvPr id="260" name=""/>
            <p:cNvSpPr/>
            <p:nvPr/>
          </p:nvSpPr>
          <p:spPr>
            <a:xfrm flipV="1">
              <a:off x="6391080" y="4176360"/>
              <a:ext cx="464760" cy="73440"/>
            </a:xfrm>
            <a:prstGeom prst="line">
              <a:avLst/>
            </a:prstGeom>
            <a:ln w="1908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7840" y="3768480"/>
              <a:ext cx="1256040" cy="552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15960" y="3781440"/>
              <a:ext cx="3427560" cy="2127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15960" y="3781440"/>
              <a:ext cx="2160" cy="21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88600" y="590940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88600" y="5555520"/>
              <a:ext cx="27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8600" y="5201640"/>
              <a:ext cx="27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88600" y="48488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8600" y="448920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88600" y="413532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88600" y="3781440"/>
              <a:ext cx="27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15960" y="5909400"/>
              <a:ext cx="3427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115960" y="5909400"/>
              <a:ext cx="216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740920" y="5909400"/>
              <a:ext cx="10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365160" y="59094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984360" y="5909400"/>
              <a:ext cx="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608960" y="5909400"/>
              <a:ext cx="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232120" y="5909400"/>
              <a:ext cx="72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296120" y="3750840"/>
              <a:ext cx="2160" cy="21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15960" y="4313880"/>
              <a:ext cx="34275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51080" y="58629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1080" y="55101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51080" y="5155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1080" y="47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1080" y="44416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1080" y="4087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02480" y="3733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92200" y="6003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94840" y="6003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18720" y="6003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7200" y="6003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59280" y="60037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8320" y="60037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30760" y="6062040"/>
              <a:ext cx="20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Detection Rate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4163760" y="4456440"/>
              <a:ext cx="148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ccess Rate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56840" y="4070160"/>
              <a:ext cx="31536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24440" y="3974040"/>
              <a:ext cx="35820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10760" y="3874320"/>
              <a:ext cx="63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ZON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36520" y="5239440"/>
              <a:ext cx="107640" cy="29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528880" y="5201280"/>
              <a:ext cx="73080" cy="369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744520" y="4279320"/>
              <a:ext cx="288000" cy="12535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2040" y="41558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17600" y="427176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45240" y="54212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89560" y="519732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032880" y="4250160"/>
              <a:ext cx="429120" cy="3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77280" y="408348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11800" y="4044240"/>
              <a:ext cx="406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821640" y="4109400"/>
              <a:ext cx="538200" cy="66960"/>
            </a:xfrm>
            <a:prstGeom prst="line">
              <a:avLst/>
            </a:prstGeom>
            <a:ln w="1908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324560" y="4035600"/>
              <a:ext cx="538200" cy="66960"/>
            </a:xfrm>
            <a:prstGeom prst="line">
              <a:avLst/>
            </a:prstGeom>
            <a:ln w="1908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852880" y="308916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in 2002-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395280" y="3825720"/>
            <a:ext cx="3960720" cy="24148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696680" y="544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in 2001-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23600" y="306864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in 2000-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6:03:30Z</dcterms:created>
  <dc:creator> </dc:creator>
  <dc:description/>
  <dc:language>en-US</dc:language>
  <cp:lastModifiedBy>Carolina Population Center</cp:lastModifiedBy>
  <dcterms:modified xsi:type="dcterms:W3CDTF">2006-11-08T20:09:33Z</dcterms:modified>
  <cp:revision>4</cp:revision>
  <dc:subject/>
  <dc:title> </dc:title>
</cp:coreProperties>
</file>